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936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140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732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936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140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33400" y="75960"/>
            <a:ext cx="7677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936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140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732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936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140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33400" y="75960"/>
            <a:ext cx="7677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38160">
            <a:solidFill>
              <a:srgbClr val="c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7119000" y="608796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 Internal Data - Strictly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6520" y="6354720"/>
            <a:ext cx="1419120" cy="436680"/>
          </a:xfrm>
          <a:prstGeom prst="rect">
            <a:avLst/>
          </a:prstGeom>
          <a:ln w="0">
            <a:noFill/>
          </a:ln>
        </p:spPr>
      </p:pic>
      <p:pic>
        <p:nvPicPr>
          <p:cNvPr id="6" name="band" descr=""/>
          <p:cNvPicPr/>
          <p:nvPr/>
        </p:nvPicPr>
        <p:blipFill>
          <a:blip r:embed="rId3"/>
          <a:stretch/>
        </p:blipFill>
        <p:spPr>
          <a:xfrm>
            <a:off x="0" y="6337440"/>
            <a:ext cx="9988560" cy="520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208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5720" y="1600200"/>
            <a:ext cx="7677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56520" y="6354720"/>
            <a:ext cx="1419120" cy="436680"/>
          </a:xfrm>
          <a:prstGeom prst="rect">
            <a:avLst/>
          </a:prstGeom>
          <a:ln w="0">
            <a:noFill/>
          </a:ln>
        </p:spPr>
      </p:pic>
      <p:pic>
        <p:nvPicPr>
          <p:cNvPr id="47" name="band" descr=""/>
          <p:cNvPicPr/>
          <p:nvPr/>
        </p:nvPicPr>
        <p:blipFill>
          <a:blip r:embed="rId3"/>
          <a:stretch/>
        </p:blipFill>
        <p:spPr>
          <a:xfrm>
            <a:off x="0" y="6337440"/>
            <a:ext cx="998856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2084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19000" y="608796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 Internal Data - Strictly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057400"/>
            <a:ext cx="9067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DC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Test Description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53000" y="5584680"/>
            <a:ext cx="41911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SH version 1.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 duration 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ep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ep is series of events and/or other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T_STEP setup_routin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BEGIN_STEP(“Setup_routing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COMMAND(“RRC RESE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ND(any_other_primitive()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aint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mitive specification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(assignment of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_PRIMITIVE_UNION any_primitiv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_ANY_PRIMITIVE any_pr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y_prim-&gt;my_integer = 10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y_prim-&gt;my_struct._sk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urn any_pr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exampl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ntity CC (UMTS) as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C has TDC testcases (UC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DC testcase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C has TDS testcases from GSM (C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DS to TDC convertio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Coming soon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est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use of received constraint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UT() -&gt; specify the ”Module Under Test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CO(src, dst) -&gt; specify and check receiver and sender of primitive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LT -&gt; alternative sequences (like ”if/else” on primitive leve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"/>
              </a:rPr>
              <a:t>Thank you for listening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063800"/>
            <a:ext cx="665460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D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D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ool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ase defin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UMTS entity 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What is TDC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6240" y="1020600"/>
            <a:ext cx="839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anguage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for test case spec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t 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vides a subset of TTCN features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ntax is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ritten in C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able with a standard C++ compiler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(VS 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Why TDC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0040" y="914040"/>
            <a:ext cx="9068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me reasons for developing TDC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TS turn around time very hig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me errors first discovered run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TS documents gets to comp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Only one person per ETS doc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est depth to small with ETS doc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igh support load for ETS doc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User documentation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ow to write TDC test cas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DC user gu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434_510_02_tdc_user_guide.doc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How to convert TDS test cases into TD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DS to TDC user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434_513_02_tds_to_tdc_user_guide.doc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estcase execution and tra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ee tap, tapcaller and PCO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tool chain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63680" y="914400"/>
          <a:ext cx="717876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914400"/>
                    <a:ext cx="71787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feature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-code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(well known language by most developer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dulari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 completion (context type aware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order is not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, FORBID, SHOW and SKIP as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actions are default SK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 expa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P and ONFAIL statements (“try” and “catch” in 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arking of primitives on/off run time (PARKING(TRUE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76280" y="914040"/>
            <a:ext cx="918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DC definition of a test case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st case consist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s 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se is series of events and/or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T_CASE UMTS200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BEGIN_CASE ("MO_CS_Emergency_Call")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tup_routing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ND (any_primitive()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…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9:24:25Z</dcterms:created>
  <dc:creator>mbj</dc:creator>
  <dc:description/>
  <dc:language>en-US</dc:language>
  <cp:lastModifiedBy>Låne Maskine</cp:lastModifiedBy>
  <cp:lastPrinted>2002-08-02T09:04:44Z</cp:lastPrinted>
  <dcterms:modified xsi:type="dcterms:W3CDTF">2002-09-17T21:27:32Z</dcterms:modified>
  <cp:revision>218</cp:revision>
  <dc:subject>WCS products</dc:subject>
  <dc:title>No Slide Title</dc:title>
</cp:coreProperties>
</file>